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D58-E1CB-4CBB-A945-C440E622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155-9A42-4A2E-A76F-B4B27B73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8BF-BA8A-407B-A86B-41103117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F63-205A-40BF-A5B8-3F77F511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964-80D7-49A5-BA49-FA5581F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C06-106A-4DA7-BF72-E2BC18BB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23A-1A09-40DD-8D4D-C1B4835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ADD-998B-489C-B13E-3E73BC64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65D-19F7-4B01-8D38-F5659C92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D53-3AE2-4CC9-A1A9-5A0C17F6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684-A883-4C7F-8DB9-F1884138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9CE-33C5-454B-98D0-CD23FB6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2F7D-45F1-42B8-9660-4681B9694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spberry" TargetMode="External"/><Relationship Id="rId2" Type="http://schemas.openxmlformats.org/officeDocument/2006/relationships/hyperlink" Target="http://en.wikipedia.org/wiki/Rubus" TargetMode="External"/><Relationship Id="rId3" Type="http://schemas.openxmlformats.org/officeDocument/2006/relationships/hyperlink" Target="http://en.wikipedia.org/wiki/Europe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ed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; occasionally as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uropean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rambois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or simply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is a red-fruited species of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native to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urop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northern Asia and commonly cultivated in other temperate regions.[1][2] A closely related plant in North America, sometimes regarded as the variet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var.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is more commonly treated as a distinct species,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American Red Raspberry), as is done here.[3] Red-fruited cultivated raspberries, even in North America, are generall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or horticultural derivatives of hybrids of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strigosus;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these plants are all addressed in the present art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0:50Z</dcterms:created>
  <dc:creator>Elev</dc:creator>
  <dc:description/>
  <dc:language>en-US</dc:language>
  <cp:lastModifiedBy>Elev</cp:lastModifiedBy>
  <dcterms:modified xsi:type="dcterms:W3CDTF">2012-06-18T10:3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